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FE0-21F9-4CE6-85F6-2CC6F68E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24F-2F85-4A06-9B72-0758374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534-402B-4503-A7F2-E21D6FD6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FA4-5B9E-481A-8423-90438B7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73E-4386-4A5A-BA83-0A163B33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CCC-F062-48F6-AE34-703B937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04B1-3C41-4A84-8908-7F40ADAD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7A70-4D82-426B-816D-6CFDFB6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59C1-A5E9-4636-B4B6-0B43D7A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77C8-12CB-4671-8351-51627C4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A544-76FE-44DC-A325-F3B57320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1D3-C89C-40BB-91B8-525C246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069-9E11-4525-8D0D-655A1D5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94A-C76B-494F-B374-F649B2C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89A9-C60C-4B77-8CF0-19E56D8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6B0-61AD-4562-BC74-8AA4E53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472C-0AF6-475D-82C1-6CDF80C2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1CE-4557-48E6-B581-53E29E9F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0A6-4BBB-4171-B14A-6C658E53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EE8-57E8-462A-A716-640D8A9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EF7-9FC5-4788-996E-E8D438B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87A-25E2-41C6-A8EA-9A6C03C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F1E-13B9-4D74-90BF-7288072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054-9EF8-4F2D-9D7D-177E69D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09A-8EB9-4494-8335-1A86E0620C3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EC4B-5858-46C7-B2E2-52909C749D1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545472"/>
                </a:solidFill>
                <a:latin typeface="Adobe Garamond Pro Bold"/>
              </a:rPr>
              <a:t>Zia Haq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9992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ahoma"/>
              </a:rPr>
              <a:t>Country         :: Pakist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ahoma"/>
              </a:rPr>
              <a:t>Me in class    ::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 10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ahoma"/>
              </a:rPr>
              <a:t>My interest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    :: interne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My favourite subject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:: arts, histor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6600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pakistan" descr=""/>
          <p:cNvPicPr/>
          <p:nvPr/>
        </p:nvPicPr>
        <p:blipFill>
          <a:blip r:embed="rId6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7T00:00:29Z</dcterms:modified>
  <cp:revision>30</cp:revision>
  <dc:subject/>
  <dc:title>MR. HAROON </dc:title>
</cp:coreProperties>
</file>